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6432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63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9880" y="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09880" y="92962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E971-4E7F-4AFC-B29D-552989E577AE}" type="slidenum">
              <a:rPr b="0" lang="en-A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rightly at the core of public sector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ant to provide you with more theory - your conference is rich with educational thin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tly said that the  meaning of change - ‘big picture ‘-  is often lacking  and often we cloud change with rhetor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want to provide you with the context for the current reform-   what are the underlying drivers; what are the themes; what are the expectations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o OLT is  didn’t exist in the past - not a curriculum branch as suc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s out of significant organisational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fices  reporting to secretary for schools and VET/HE se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approach/ remove silos - looking out to students, teachers, schools/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T challenges: How to stimulate a culture of innovation; how to handle risks associated with innovation; how to convert successes into policy and widespread  pract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be a learning organisation- part of networks; partnerships; responsive ..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ducational context most familiar - patterns of performance( eg Teese); new learning theory very power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UT underlying that deep ( and disruptive) economic and social changes; Familiar but useful to consider big drivers affecting all institutional structur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Knowledge economy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different skills ( new basics of thinking/ ICTetc) BUT everyone needs them - no longer discretion because of new VALUE of knowledge as asset; private and public benefit; business examples- culture becoming a prime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lu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Public sector governanc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less authoritarian/ centralist governance ; new combination of:competitive ’ markets’; networks/ partnerships; and mixed model of devolution and outcomes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ver -- BE  DIFFERENT ( new skills attributes) and BE BETTER (include all; not failures  ) and do it SIMULTANEOUS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E41-239A-4822-9009-71FC2D79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800-BE34-4208-98D5-741C9581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CBA-DAC1-4137-A4E1-7E6F8891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0C0-6F4E-49F3-BAC7-D8544E2A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F96-5E96-4011-9CA9-31891A1F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2FD-0ACF-4FDD-A303-FF7EB574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49C-5D92-409D-BD19-C0D7C6C7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8A5-7F32-4D63-A0D3-CA972303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5FD-DCA3-4C5C-A786-3A41A7E7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1C8-2F88-403E-A2C9-9A09BCD1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F65-A921-4417-9AFF-0B158CA5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7AB-DE60-4FC7-BAAB-19AF58ED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748E-EB1B-4469-A10B-8F92344FEAA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82760" y="261576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Collaborating for the futur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14972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6912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TAFE Library Conference </a:t>
            </a: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Dr Dahle Suggett </a:t>
            </a: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6912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1</a:t>
            </a:r>
            <a:r>
              <a:rPr b="0" lang="en-AU" sz="1800" spc="-1" strike="noStrike" baseline="30000">
                <a:solidFill>
                  <a:srgbClr val="333399"/>
                </a:solidFill>
                <a:latin typeface="Verdana"/>
              </a:rPr>
              <a:t>st</a:t>
            </a: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 July 2004 </a:t>
            </a: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Dep. Secret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6912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Office of Learning and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6912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AU" sz="1800" spc="-1" strike="noStrike">
                <a:solidFill>
                  <a:srgbClr val="333399"/>
                </a:solidFill>
                <a:latin typeface="Verdana"/>
              </a:rPr>
              <a:t>DE&amp;T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dustry Issues Short Term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76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Verdana"/>
              </a:rPr>
              <a:t>Administrative barriers restrict innovative approaches, such as multi-institutional and company partner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6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Verdana"/>
              </a:rPr>
              <a:t>Registration as RTOa is cumbersome - redundant considering global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6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Verdana"/>
              </a:rPr>
              <a:t>Inconsistencies in state-based standards and regulations create ineffici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11350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VET Policy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560" y="3861720"/>
            <a:ext cx="8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930320"/>
            <a:ext cx="73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Verdana"/>
              </a:rPr>
              <a:t>Key ‘bookends’ of national system under re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Verdana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Verdana"/>
              </a:rPr>
              <a:t>High Level Review of Training Packag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Verdana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Verdana"/>
              </a:rPr>
              <a:t>Review of Australian Quality Training Framework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Verdana"/>
              </a:rPr>
              <a:t>ANTA Agreement under renegoti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Verdana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AU" sz="1800" spc="-1" strike="noStrike">
                <a:solidFill>
                  <a:srgbClr val="333399"/>
                </a:solidFill>
                <a:latin typeface="Verdana"/>
              </a:rPr>
              <a:t>Shape of national VET system and role of A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Verdana"/>
              </a:rPr>
              <a:t>Implications of fewer industry skills councils to replace national ITAB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Verdana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Verdana"/>
              </a:rPr>
              <a:t>Long term implications for State ITAB r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T Policy Context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Emerg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Role and standing of V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Adult learning/workforce re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Blend of skills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Resourcing and priority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Future of the nation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Role of office of learning and tea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Our environ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5396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Transition: what young people are telling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5396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Training: what business is saying about changes /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Policy con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9000" y="1893600"/>
            <a:ext cx="8569080" cy="41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5760" indent="-45576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Verdana"/>
              </a:rPr>
              <a:t>Lead and drive excellence in learning and teach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Verdana"/>
              </a:rPr>
              <a:t>Focus on R &amp; D / innovation /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333399"/>
                </a:solidFill>
                <a:latin typeface="Verdana"/>
              </a:rPr>
              <a:t>commun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Verdana"/>
              </a:rPr>
              <a:t>Turn R &amp; D into policy and produc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333399"/>
                </a:solidFill>
                <a:latin typeface="Verdana"/>
              </a:rPr>
              <a:t>for learning and tea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Verdana"/>
              </a:rPr>
              <a:t>Manage Victorian Leaning, Employ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333399"/>
                </a:solidFill>
                <a:latin typeface="Verdana"/>
              </a:rPr>
              <a:t>and Skills Commiss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125360"/>
            <a:ext cx="69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Role of 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ansition: student views (2002 exit yr 12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41% university; 27% VET; 6% apprens/Traineeships; 21% employed; 6 looking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Govt and catholic more likely to go to V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Wide regional variation; rural more likely to select work/ V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Early leavers – 52% work/V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77160" y="2351160"/>
            <a:ext cx="8275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BCA Study: 10 large ente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ignificant transformation in skill development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tegral to high performance- human cap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evelopment the c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nufacturing, construction, resourc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  –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generic / soft skil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rvice and retail – product and service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n impe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05264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Verdana"/>
              </a:rPr>
              <a:t>Business: Views and expectations</a:t>
            </a: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451240"/>
            <a:ext cx="7488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4560" y="2901240"/>
            <a:ext cx="910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4560" y="4648320"/>
            <a:ext cx="910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4360" y="836640"/>
            <a:ext cx="7199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99"/>
                </a:solidFill>
                <a:latin typeface="Verdana"/>
              </a:rPr>
              <a:t>BCA study ( contd)</a:t>
            </a: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557360"/>
            <a:ext cx="4752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Breath o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Product knowled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Customer ser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Job readiness and intro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Technical skills update/ retrai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Equipment vendor instru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Occupational health and safe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1773360"/>
            <a:ext cx="251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2344680"/>
            <a:ext cx="3456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Environmental standar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Community awaren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Front line leadersh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Team work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Regulatory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Personal awareness and 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227240"/>
            <a:ext cx="719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628640"/>
            <a:ext cx="590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Choice of RTO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BCA study ( contd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71640" y="1989000"/>
          <a:ext cx="6838920" cy="3853080"/>
        </p:xfrm>
        <a:graphic>
          <a:graphicData uri="http://schemas.openxmlformats.org/drawingml/2006/table">
            <a:tbl>
              <a:tblPr/>
              <a:tblGrid>
                <a:gridCol w="216000"/>
                <a:gridCol w="2213640"/>
                <a:gridCol w="216000"/>
                <a:gridCol w="2290320"/>
                <a:gridCol w="216000"/>
                <a:gridCol w="216000"/>
                <a:gridCol w="14709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Enterprise RTO for all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Enterprise RTO for limited scop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Avoidance of RTO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C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Ford (for 50% of formal train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Australia P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cDona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Holden (for 70% of formal train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BHP Steel (one facility is an RTO for trade train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Coles M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Alcoa (for 30% of formal train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Telstra (for 20% of formal train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Boral ACM (for 80% of formal train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Source: The Allen Consulting Group case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227240"/>
            <a:ext cx="719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8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CA study ( contd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419120"/>
            <a:ext cx="42483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Business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Global competitivenes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Focus on costs, markets and spe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Product / service quality / innov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Flexible workplac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Business regul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National learning organis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Motivated workfor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Employer of choice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1471680"/>
            <a:ext cx="3240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Preferred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Enterprise specific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Work-based learning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Available when need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Soft and technical ski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One-on-one as well as group learning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Verdana"/>
              </a:rPr>
              <a:t>Ongoing retraining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112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Industry Issues Short Ter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916280"/>
            <a:ext cx="820908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177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Issues to resolve in the short term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177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177840">
              <a:lnSpc>
                <a:spcPct val="150000"/>
              </a:lnSpc>
              <a:spcBef>
                <a:spcPts val="1125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Skill development requirements not adequately understood and reflected in VET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177840">
              <a:lnSpc>
                <a:spcPct val="150000"/>
              </a:lnSpc>
              <a:spcBef>
                <a:spcPts val="1125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Value training in soft skills/employability skills - not given sufficient emphasis in training pack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177840">
              <a:lnSpc>
                <a:spcPct val="150000"/>
              </a:lnSpc>
              <a:spcBef>
                <a:spcPts val="1125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Enterprises want training closely tailored to their workplace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2:11:21Z</dcterms:created>
  <dc:creator>deet</dc:creator>
  <dc:description/>
  <dc:language>en-US</dc:language>
  <cp:lastModifiedBy>jasons</cp:lastModifiedBy>
  <cp:lastPrinted>2004-05-22T04:06:36Z</cp:lastPrinted>
  <dcterms:modified xsi:type="dcterms:W3CDTF">2004-06-30T23:20:33Z</dcterms:modified>
  <cp:revision>53</cp:revision>
  <dc:subject/>
  <dc:title>Slide 1</dc:title>
</cp:coreProperties>
</file>