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4.png" ContentType="image/png"/>
  <Override PartName="/ppt/media/image26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13.png" ContentType="image/png"/>
  <Override PartName="/ppt/media/image27.jpeg" ContentType="image/jpeg"/>
  <Override PartName="/ppt/media/image10.png" ContentType="image/png"/>
  <Override PartName="/ppt/media/image30.jpeg" ContentType="image/jpeg"/>
  <Override PartName="/ppt/media/image15.png" ContentType="image/png"/>
  <Override PartName="/ppt/media/image24.jpeg" ContentType="image/jpeg"/>
  <Override PartName="/ppt/media/image3.png" ContentType="image/png"/>
  <Override PartName="/ppt/media/image2.png" ContentType="image/png"/>
  <Override PartName="/ppt/media/image25.jpeg" ContentType="image/jpeg"/>
  <Override PartName="/ppt/media/image1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media/image21.jpeg" ContentType="image/jpeg"/>
  <Override PartName="/ppt/media/image12.png" ContentType="image/pn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ADCF2-2B75-451D-968F-C564B8F0DDF7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ineering and road building books which belong to the Ministry of Communication, Transport, Post and Constr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gchanh at work in the Libr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87F5-E03C-4883-A5C4-4B0EC559F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62BA-A84A-45D8-AB61-A3D8EA2FB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5E2B-8A0F-4202-8578-5AE6F2F53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C9A9-A7F5-4CA2-85BA-9C39B0E41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4608-A676-4745-9F2A-769888229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A83B-2EF7-418D-B3D2-DAECD1884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66FE-93AE-40F6-A5A6-B7D9B46CA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2390-9A00-45C9-B143-75CA4AA9F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1538-471E-419F-8185-B21CEB659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27DB-8C44-4F7F-9FD8-45C2ADDF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26BF-16D1-4C1E-98B4-F59CB711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2F07-614F-46CC-9ECA-0761957E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95C5C-B0C0-42C7-AC2F-327E50AFCF04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3333cc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elco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34290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 Library in La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manda Ste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Books%20belonging%20to%20MCTPC" descr=""/>
          <p:cNvPicPr/>
          <p:nvPr/>
        </p:nvPicPr>
        <p:blipFill>
          <a:blip r:embed="rId1"/>
          <a:stretch/>
        </p:blipFill>
        <p:spPr>
          <a:xfrm>
            <a:off x="838080" y="1015920"/>
            <a:ext cx="7467840" cy="5289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1371600" y="0"/>
            <a:ext cx="640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ineering books from the MCTP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Mr%20Sengchanh%20starting%20on%20classification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533520" y="1474920"/>
            <a:ext cx="8076960" cy="490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3" name=""/>
          <p:cNvSpPr/>
          <p:nvPr/>
        </p:nvSpPr>
        <p:spPr>
          <a:xfrm>
            <a:off x="914400" y="6094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gchanh at work in the Libr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Library%20computer" descr=""/>
          <p:cNvPicPr/>
          <p:nvPr/>
        </p:nvPicPr>
        <p:blipFill>
          <a:blip r:embed="rId1">
            <a:lum bright="12000"/>
          </a:blip>
          <a:srcRect l="0" t="0" r="0" b="1585"/>
          <a:stretch/>
        </p:blipFill>
        <p:spPr>
          <a:xfrm>
            <a:off x="762120" y="1193760"/>
            <a:ext cx="7619760" cy="5207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304920" y="3808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computer for the Librar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Silverfish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914400" y="1219320"/>
            <a:ext cx="7391520" cy="5352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762120" y="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lverfish have eaten the cover of this boo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ver at the power pl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River%20at%20power%20plant" descr=""/>
          <p:cNvPicPr/>
          <p:nvPr/>
        </p:nvPicPr>
        <p:blipFill>
          <a:blip r:embed="rId1"/>
          <a:srcRect l="0" t="716" r="0" b="0"/>
          <a:stretch/>
        </p:blipFill>
        <p:spPr>
          <a:xfrm>
            <a:off x="380880" y="995400"/>
            <a:ext cx="8458200" cy="5559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icnic at Naam Ngum d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Naam%20Ngum%20dam" descr=""/>
          <p:cNvPicPr/>
          <p:nvPr/>
        </p:nvPicPr>
        <p:blipFill>
          <a:blip r:embed="rId1">
            <a:lum contrast="12000"/>
          </a:blip>
          <a:srcRect l="926" t="1452" r="0" b="0"/>
          <a:stretch/>
        </p:blipFill>
        <p:spPr>
          <a:xfrm>
            <a:off x="533520" y="990720"/>
            <a:ext cx="8153280" cy="5170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Sams%20door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04920" y="1066680"/>
            <a:ext cx="8458200" cy="5156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3" name=""/>
          <p:cNvSpPr/>
          <p:nvPr/>
        </p:nvSpPr>
        <p:spPr>
          <a:xfrm>
            <a:off x="990720" y="0"/>
            <a:ext cx="716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mage caused by a rat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Boat1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2438280" y="762120"/>
            <a:ext cx="4286520" cy="5864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1828800" y="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racing bo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Boat2" descr=""/>
          <p:cNvPicPr/>
          <p:nvPr/>
        </p:nvPicPr>
        <p:blipFill>
          <a:blip r:embed="rId1">
            <a:lum bright="24000"/>
          </a:blip>
          <a:srcRect l="0" t="0" r="0" b="5749"/>
          <a:stretch/>
        </p:blipFill>
        <p:spPr>
          <a:xfrm>
            <a:off x="2155680" y="228600"/>
            <a:ext cx="4668840" cy="6248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Boat3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80880" y="693720"/>
            <a:ext cx="8458200" cy="5419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laos%20map" descr=""/>
          <p:cNvPicPr/>
          <p:nvPr/>
        </p:nvPicPr>
        <p:blipFill>
          <a:blip r:embed="rId1"/>
          <a:stretch/>
        </p:blipFill>
        <p:spPr>
          <a:xfrm>
            <a:off x="1422360" y="1068480"/>
            <a:ext cx="6297480" cy="47210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map of La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laos%20flag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814320"/>
          </a:xfrm>
          <a:prstGeom prst="rect">
            <a:avLst/>
          </a:prstGeom>
          <a:ln w="0">
            <a:noFill/>
          </a:ln>
        </p:spPr>
      </p:pic>
      <p:pic>
        <p:nvPicPr>
          <p:cNvPr id="53" name="laos%20flag" descr=""/>
          <p:cNvPicPr/>
          <p:nvPr/>
        </p:nvPicPr>
        <p:blipFill>
          <a:blip r:embed="rId3"/>
          <a:stretch/>
        </p:blipFill>
        <p:spPr>
          <a:xfrm>
            <a:off x="7924680" y="0"/>
            <a:ext cx="1219320" cy="814320"/>
          </a:xfrm>
          <a:prstGeom prst="rect">
            <a:avLst/>
          </a:prstGeom>
          <a:ln w="0">
            <a:noFill/>
          </a:ln>
        </p:spPr>
      </p:pic>
      <p:pic>
        <p:nvPicPr>
          <p:cNvPr id="54" name="laos%20flag" descr=""/>
          <p:cNvPicPr/>
          <p:nvPr/>
        </p:nvPicPr>
        <p:blipFill>
          <a:blip r:embed="rId4"/>
          <a:stretch/>
        </p:blipFill>
        <p:spPr>
          <a:xfrm>
            <a:off x="0" y="6043680"/>
            <a:ext cx="1219320" cy="814320"/>
          </a:xfrm>
          <a:prstGeom prst="rect">
            <a:avLst/>
          </a:prstGeom>
          <a:ln w="0">
            <a:noFill/>
          </a:ln>
        </p:spPr>
      </p:pic>
      <p:pic>
        <p:nvPicPr>
          <p:cNvPr id="55" name="laos%20flag" descr=""/>
          <p:cNvPicPr/>
          <p:nvPr/>
        </p:nvPicPr>
        <p:blipFill>
          <a:blip r:embed="rId5"/>
          <a:stretch/>
        </p:blipFill>
        <p:spPr>
          <a:xfrm>
            <a:off x="7924680" y="6043680"/>
            <a:ext cx="1219320" cy="8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Boat%20racing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609480" y="1319040"/>
            <a:ext cx="7925040" cy="519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9" name=""/>
          <p:cNvSpPr/>
          <p:nvPr/>
        </p:nvSpPr>
        <p:spPr>
          <a:xfrm>
            <a:off x="533520" y="304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training boat on the near-flooding Mekong Ri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ddha statues at Wat Si Sak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Buddha%20statues" descr=""/>
          <p:cNvPicPr/>
          <p:nvPr/>
        </p:nvPicPr>
        <p:blipFill>
          <a:blip r:embed="rId1"/>
          <a:stretch/>
        </p:blipFill>
        <p:spPr>
          <a:xfrm>
            <a:off x="304920" y="809640"/>
            <a:ext cx="8610480" cy="58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Tripitaka Library at Wat Si Sak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Tripitaka%20Library" descr=""/>
          <p:cNvPicPr/>
          <p:nvPr/>
        </p:nvPicPr>
        <p:blipFill>
          <a:blip r:embed="rId1"/>
          <a:stretch/>
        </p:blipFill>
        <p:spPr>
          <a:xfrm>
            <a:off x="228600" y="974880"/>
            <a:ext cx="8686800" cy="565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w Pha Kaew muse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Museum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543800" cy="4987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05520" y="45684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ddha Park or Xieng Khu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Buddha%20Park%201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4572000" cy="6248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Buddha%20Park%202" descr=""/>
          <p:cNvPicPr/>
          <p:nvPr/>
        </p:nvPicPr>
        <p:blipFill>
          <a:blip r:embed="rId1">
            <a:lum bright="6000"/>
          </a:blip>
          <a:srcRect l="0" t="2264" r="0" b="0"/>
          <a:stretch/>
        </p:blipFill>
        <p:spPr>
          <a:xfrm>
            <a:off x="228600" y="685800"/>
            <a:ext cx="8686800" cy="5614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Buddha%20Park%203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28600" y="584280"/>
            <a:ext cx="8610480" cy="5638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Great Stupa or Phu That Lua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Great%20Stupa" descr=""/>
          <p:cNvPicPr/>
          <p:nvPr/>
        </p:nvPicPr>
        <p:blipFill>
          <a:blip r:embed="rId1"/>
          <a:stretch/>
        </p:blipFill>
        <p:spPr>
          <a:xfrm>
            <a:off x="1066680" y="853920"/>
            <a:ext cx="7315200" cy="5842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entrance to the Great Stup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Great%20Stupa%20entrance" descr=""/>
          <p:cNvPicPr/>
          <p:nvPr/>
        </p:nvPicPr>
        <p:blipFill>
          <a:blip r:embed="rId1"/>
          <a:srcRect l="1897" t="0" r="0" b="13329"/>
          <a:stretch/>
        </p:blipFill>
        <p:spPr>
          <a:xfrm>
            <a:off x="2459160" y="609480"/>
            <a:ext cx="4425840" cy="5943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Great%20Stupa%20up%20close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2492280" y="228600"/>
            <a:ext cx="4159440" cy="6400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57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 view of the Mekong from my room at the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Lane Xang Hot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Lane%20Xang%20Mekong%20view" descr=""/>
          <p:cNvPicPr/>
          <p:nvPr/>
        </p:nvPicPr>
        <p:blipFill>
          <a:blip r:embed="rId1"/>
          <a:srcRect l="2882" t="12267" r="0" b="1706"/>
          <a:stretch/>
        </p:blipFill>
        <p:spPr>
          <a:xfrm>
            <a:off x="457200" y="533520"/>
            <a:ext cx="8229600" cy="4817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osing ceremony for the Records Management Worksho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Closing%20ceremony" descr=""/>
          <p:cNvPicPr/>
          <p:nvPr/>
        </p:nvPicPr>
        <p:blipFill>
          <a:blip r:embed="rId1">
            <a:lum bright="18000"/>
          </a:blip>
          <a:srcRect l="0" t="4367" r="0" b="0"/>
          <a:stretch/>
        </p:blipFill>
        <p:spPr>
          <a:xfrm>
            <a:off x="762120" y="1447920"/>
            <a:ext cx="7619760" cy="5008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943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Monument or Patuxa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The%20Monument" descr=""/>
          <p:cNvPicPr/>
          <p:nvPr/>
        </p:nvPicPr>
        <p:blipFill>
          <a:blip r:embed="rId1"/>
          <a:srcRect l="1104" t="0" r="0" b="23250"/>
          <a:stretch/>
        </p:blipFill>
        <p:spPr>
          <a:xfrm>
            <a:off x="1981080" y="228600"/>
            <a:ext cx="525780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19920" y="99036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tuxai’s cei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Monument%20ceiling" descr=""/>
          <p:cNvPicPr/>
          <p:nvPr/>
        </p:nvPicPr>
        <p:blipFill>
          <a:blip r:embed="rId1"/>
          <a:srcRect l="1804" t="3570" r="0" b="0"/>
          <a:stretch/>
        </p:blipFill>
        <p:spPr>
          <a:xfrm>
            <a:off x="1600200" y="457200"/>
            <a:ext cx="4154400" cy="6172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View%20from%20Monument1" descr=""/>
          <p:cNvPicPr/>
          <p:nvPr/>
        </p:nvPicPr>
        <p:blipFill>
          <a:blip r:embed="rId1">
            <a:lum bright="12000"/>
          </a:blip>
          <a:srcRect l="0" t="0" r="1350" b="1191"/>
          <a:stretch/>
        </p:blipFill>
        <p:spPr>
          <a:xfrm>
            <a:off x="990720" y="228600"/>
            <a:ext cx="4419360" cy="6324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6172200" y="38088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iew from Patuxa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Monument%20spire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371600" y="228600"/>
            <a:ext cx="4286160" cy="626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5562720" y="457200"/>
            <a:ext cx="2895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beautiful spire at Patuxa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National%20Library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685800" y="1143000"/>
            <a:ext cx="7848720" cy="5276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609480" y="457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os’ National Library in Vientia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Workbooks%20in%20Lao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8001000" cy="5030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1295280" y="6094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xtbooks written in La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05:39:50Z</dcterms:created>
  <dc:creator>asteen</dc:creator>
  <dc:description/>
  <dc:language>en-US</dc:language>
  <cp:lastModifiedBy>jasons</cp:lastModifiedBy>
  <dcterms:modified xsi:type="dcterms:W3CDTF">2004-06-25T02:03:37Z</dcterms:modified>
  <cp:revision>12</cp:revision>
  <dc:subject/>
  <dc:title>Welcome</dc:title>
</cp:coreProperties>
</file>