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DA09-7D33-4209-955F-C538DA59D73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eck out how much group knows/used AEShare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etter described easier found but need to minimise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ntion salient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w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vantages to owners and users of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ick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ont get benefits for a while tell people as you talk to them/request lic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e need help to help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sy as p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857-692F-4FD0-9B44-42829323601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sum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terials not produced for education to drop and dr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used to teach Robert Fr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 office Capture in on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345B-F4E8-418E-B0AD-FF8611B4334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lan of at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ime to think about  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nowledge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itical for education, cannot afford to waste a drop like water in Syd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ad horse racing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ngs can be free or commercial independent of digitally controlled or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king it easier to cover off rights/copy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lates to the licen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C77E-15ED-4907-B8D6-5EAA4B55B15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/non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2019-5308-477A-BC98-DCB94E2BE78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57320" y="4704840"/>
            <a:ext cx="4981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business agent for learn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CC9-91E1-4410-8D8B-0C9048A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C10-4EBE-4D0F-9F5C-4FA68FB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62D-2FD1-4191-912B-E55EF6C7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424-B8F8-4713-81A7-71C39347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3F1-4514-4DEF-81AD-EFF4E47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F24-D8EC-4CE8-ACCA-39ED364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DAA-2D18-43E7-A1F1-8C8F85A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769-A153-4DF6-8ECD-6F32C0B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801-38FA-431D-9B42-9EE00B5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430-EC87-4AA8-8B9E-74C5587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FFB-9744-4FB5-BDBD-C447189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2B4-075B-4E97-9F1D-E668168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E3D-591C-42C1-897B-2161277A840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esharenet.com.au/FfE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aesharenet.com.au/" TargetMode="External"/><Relationship Id="rId4" Type="http://schemas.openxmlformats.org/officeDocument/2006/relationships/hyperlink" Target="http://www.aesharenet.com.au/" TargetMode="External"/><Relationship Id="rId5" Type="http://schemas.openxmlformats.org/officeDocument/2006/relationships/hyperlink" Target="http://www.aesharenet.com.a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878280" cy="163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nlocking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T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838080" y="198108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trademarked licence ‘protocols’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sed legal templates with capacity for variable licence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metadat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data capture capacity through a ‘local’ softwar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load to ‘central’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ence Protocols comp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645000"/>
            <a:ext cx="29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877000"/>
            <a:ext cx="78501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50920" y="1557000"/>
            <a:ext cx="0" cy="43196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292640"/>
            <a:ext cx="3528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years; Australia &amp; NZ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ments vest in original 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Supply to Third Pa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or registers; Licensee ac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341360"/>
            <a:ext cx="30592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petual, world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not circumvent a T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ments (if permitted) vest in original 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 licence; no Supply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ce Fee / Royalties may a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or registers product list; Licensee selects items, qua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46920" y="3645000"/>
            <a:ext cx="3097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sable licenc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ments (if permitted) vest in original 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ce Fee / Royalties may a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or registers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tes negot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844640"/>
            <a:ext cx="3095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year, world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ments not per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Supply to Third Pa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or registers; Licensee ac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060640"/>
            <a:ext cx="374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petual, world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Use for Education Purp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not circumvent a T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ments not per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upply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or applies Mark; Licensee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92640"/>
            <a:ext cx="3276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Share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petual, world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version vests in Licen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pre-clearance of Moral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Supply to Third Pa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or registers; Licensee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99280" y="558972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conomic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07920"/>
            <a:ext cx="9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oral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3 AEShareNet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ith permission P Crisp AG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New Licenc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EShareNet-Ff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Free for Education mark indicates that material may be freely used for educational purposes. The mark is a trademark of AEShareNet Limited but can be applied by anyone to any material in which they own the copyright provided they agree with the conditions set out in these p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Free for Education logo"/>
          <p:cNvPicPr/>
          <p:nvPr/>
        </p:nvPicPr>
        <p:blipFill>
          <a:blip r:embed="rId2"/>
          <a:stretch/>
        </p:blipFill>
        <p:spPr>
          <a:xfrm>
            <a:off x="5029200" y="2743200"/>
            <a:ext cx="12286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WebP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copyright notice and/or footer or header of every page of electronic formats of a document available for downlo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other formats eg CD-R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copyright notice and/or footer or header of every page of a printed docu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esharenet.com.au/FfE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Free for Education logo"/>
          <p:cNvPicPr/>
          <p:nvPr/>
        </p:nvPicPr>
        <p:blipFill>
          <a:blip r:embed="rId3"/>
          <a:stretch/>
        </p:blipFill>
        <p:spPr>
          <a:xfrm>
            <a:off x="3886200" y="1143000"/>
            <a:ext cx="1228680" cy="29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educational bodies no need to write to seek per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owners no need to keep responding to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n use the whole not just 10%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t is  actually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Free for Education logo"/>
          <p:cNvPicPr/>
          <p:nvPr/>
        </p:nvPicPr>
        <p:blipFill>
          <a:blip r:embed="rId2"/>
          <a:stretch/>
        </p:blipFill>
        <p:spPr>
          <a:xfrm>
            <a:off x="6248520" y="1066680"/>
            <a:ext cx="1228680" cy="2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How can librarians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incite use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et AEShareNet know the websites they would like ma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 websites they want to use tell the website owner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Free for Education logo"/>
          <p:cNvPicPr/>
          <p:nvPr/>
        </p:nvPicPr>
        <p:blipFill>
          <a:blip r:embed="rId2"/>
          <a:stretch/>
        </p:blipFill>
        <p:spPr>
          <a:xfrm>
            <a:off x="6477120" y="1676520"/>
            <a:ext cx="1228680" cy="295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Free for Education logo"/>
          <p:cNvPicPr/>
          <p:nvPr/>
        </p:nvPicPr>
        <p:blipFill>
          <a:blip r:embed="rId3"/>
          <a:stretch/>
        </p:blipFill>
        <p:spPr>
          <a:xfrm>
            <a:off x="4876920" y="4800600"/>
            <a:ext cx="12286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Search – locate – preview - purc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earch the database using key words or Advanced sear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he description and licenc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eview the resource or contact lic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ess the button to request a lic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76320"/>
            <a:ext cx="2819520" cy="29196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ecome a Me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533520"/>
            <a:ext cx="2819520" cy="48996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atalogue resources using software pack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54600"/>
            <a:ext cx="2057400" cy="88596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nsee pays AEShareNe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ssociates prepay, 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ember pays at end of settlement perio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257480"/>
            <a:ext cx="2819520" cy="48996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ceive licence request from Customer (could be Member or Associa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138400"/>
            <a:ext cx="1981080" cy="489960"/>
          </a:xfrm>
          <a:prstGeom prst="rect">
            <a:avLst/>
          </a:prstGeom>
          <a:solidFill>
            <a:srgbClr val="00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utomatic licence accept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4160"/>
            <a:ext cx="2666880" cy="687960"/>
          </a:xfrm>
          <a:prstGeom prst="rect">
            <a:avLst/>
          </a:prstGeom>
          <a:solidFill>
            <a:srgbClr val="00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Negotiate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(price/terms).  Licence in ‘Under Negotiation’ statu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963880"/>
            <a:ext cx="2666880" cy="687960"/>
          </a:xfrm>
          <a:prstGeom prst="rect">
            <a:avLst/>
          </a:prstGeom>
          <a:solidFill>
            <a:srgbClr val="00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Create an offer based on negotiations.  Licence in ‘Draft’ statu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3857760"/>
            <a:ext cx="2666880" cy="1083960"/>
          </a:xfrm>
          <a:prstGeom prst="rect">
            <a:avLst/>
          </a:prstGeom>
          <a:solidFill>
            <a:srgbClr val="00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Licence Accepted.  If taken out by Member licence is completed, Associate licences show as ‘Payment Pending’ status until payment is received by AEShareN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257800"/>
            <a:ext cx="1752480" cy="885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ssociates are ‘non-members’ who self register at the time of transaction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762120"/>
            <a:ext cx="2362320" cy="885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censees and Licensors are notified of any events in the system by email throughout the process</a:t>
            </a:r>
            <a:r>
              <a:rPr b="0" lang="en-US" sz="13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4952880"/>
            <a:ext cx="1752480" cy="68796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nsor provides “copy” of resource on acceptance by license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5813280"/>
            <a:ext cx="2057400" cy="885960"/>
          </a:xfrm>
          <a:prstGeom prst="rect">
            <a:avLst/>
          </a:prstGeom>
          <a:solidFill>
            <a:srgbClr val="ffb36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ShareNet pays licensor for all transactions collected in previous period 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ss 10%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29" idx="2"/>
            <a:endCxn id="130" idx="0"/>
          </p:cNvCxnSpPr>
          <p:nvPr/>
        </p:nvCxnSpPr>
        <p:spPr>
          <a:xfrm>
            <a:off x="4838400" y="37296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0" idx="2"/>
            <a:endCxn id="132" idx="0"/>
          </p:cNvCxnSpPr>
          <p:nvPr/>
        </p:nvCxnSpPr>
        <p:spPr>
          <a:xfrm>
            <a:off x="4838400" y="10285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 flipH="1">
            <a:off x="2773080" y="1752480"/>
            <a:ext cx="156996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752480"/>
            <a:ext cx="139860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4" idx="2"/>
            <a:endCxn id="135" idx="0"/>
          </p:cNvCxnSpPr>
          <p:nvPr/>
        </p:nvCxnSpPr>
        <p:spPr>
          <a:xfrm>
            <a:off x="2247480" y="27478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5" idx="2"/>
            <a:endCxn id="136" idx="0"/>
          </p:cNvCxnSpPr>
          <p:nvPr/>
        </p:nvCxnSpPr>
        <p:spPr>
          <a:xfrm>
            <a:off x="2247480" y="36576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 flipH="1">
            <a:off x="5181480" y="2666880"/>
            <a:ext cx="14479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343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0" idx="0"/>
          </p:cNvCxnSpPr>
          <p:nvPr/>
        </p:nvCxnSpPr>
        <p:spPr>
          <a:xfrm>
            <a:off x="4762080" y="564624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1" idx="1"/>
          </p:cNvCxnSpPr>
          <p:nvPr/>
        </p:nvCxnSpPr>
        <p:spPr>
          <a:xfrm>
            <a:off x="5638320" y="530028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781680" y="38088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66"/>
                </a:solidFill>
                <a:latin typeface="BernhardMod B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6280" y="497520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66"/>
                </a:solidFill>
                <a:latin typeface="BernhardMod B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ith permission Body on li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ith permission Body on li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Education is the ability to listen to almost anything without losing your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temper." - Robert Fro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76600" y="1219320"/>
            <a:ext cx="379080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22040" y="5145120"/>
            <a:ext cx="35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</a:t>
            </a:r>
            <a:r>
              <a:rPr b="0" lang="en-A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aesharenet</a:t>
            </a:r>
            <a:r>
              <a:rPr b="0" lang="en-A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 neglected fro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ectual Property, copyright and the digit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ing – A way to Unlock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hareNet licensing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and acquiring other people’s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ealising the Value of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978200"/>
            <a:ext cx="7488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P discipline as key as that for financ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P as an Asset – must be subjected to the same thoroughness, management and treatment as other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ith permission of  RMR Gl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EShareNet_chart" descr=""/>
          <p:cNvPicPr/>
          <p:nvPr/>
        </p:nvPicPr>
        <p:blipFill>
          <a:blip r:embed="rId1"/>
          <a:stretch/>
        </p:blipFill>
        <p:spPr>
          <a:xfrm>
            <a:off x="1258920" y="787320"/>
            <a:ext cx="6905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Advantages of a licensing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ermission to copy and maybe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re flexibility in how you use other people’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on’t develop from scr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ave time and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et out to students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viding a diverse learning experience for your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ector as a whole benefits through greater efficiency and bette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riv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9200" y="526896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79760" y="5229360"/>
            <a:ext cx="465120" cy="420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46520" y="5878440"/>
            <a:ext cx="596880" cy="57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8080" y="5878440"/>
            <a:ext cx="522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0"/>
            <a:ext cx="3809880" cy="107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440" y="1077840"/>
            <a:ext cx="10760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440" y="2475000"/>
            <a:ext cx="107604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440" y="3871800"/>
            <a:ext cx="10760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440" y="5268960"/>
            <a:ext cx="10760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70080" y="107784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60800" y="9954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~ 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70080" y="244944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60800" y="2367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~ 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0080" y="3211560"/>
            <a:ext cx="228600" cy="304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32200" y="275436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98680" y="29829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79920" y="344016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5" idx="2"/>
            <a:endCxn id="77" idx="0"/>
          </p:cNvCxnSpPr>
          <p:nvPr/>
        </p:nvCxnSpPr>
        <p:spPr>
          <a:xfrm rot="5400000">
            <a:off x="3771000" y="3154320"/>
            <a:ext cx="457920" cy="1148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070080" y="32115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16120" y="393372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46520" y="4365720"/>
            <a:ext cx="554040" cy="523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66" idx="3"/>
            <a:endCxn id="70" idx="1"/>
          </p:cNvCxnSpPr>
          <p:nvPr/>
        </p:nvCxnSpPr>
        <p:spPr>
          <a:xfrm>
            <a:off x="1936440" y="1572840"/>
            <a:ext cx="1486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1698480" y="29829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85880" y="4365720"/>
            <a:ext cx="930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8480" y="57261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1680" y="5589720"/>
            <a:ext cx="380880" cy="358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9320" y="91440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Contextualisatio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(changes are usually too trivial to give rise to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layer of copy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53080" y="21337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n Enhancemen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(substa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anges - new IP arises, but insertions &amp; deletions unusable apart from original 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64960" y="3809880"/>
            <a:ext cx="40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Supplementary Work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new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ises – the new subject matt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ningful to some extent,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original 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240" y="5041800"/>
            <a:ext cx="342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Compilation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each item has IP, provided substantial – in addition the Compilation attracts IP because of the effort in selecting &amp; arran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81200" y="1405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48200" y="5372280"/>
            <a:ext cx="28872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00560" y="6164280"/>
            <a:ext cx="2156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68560" y="6091200"/>
            <a:ext cx="21600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38172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permission of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 Crisp, AGS,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AEShareNet provide?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 what is out the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one can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 a licence to use and adapt existing resourc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one can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your own resources available secure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ber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btain/give the permissions for use and have assurance of how the resource can/can’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EShareNet, the learning materials bro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people who own resources with people who want to us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listing of available resources with links to the repositories where they re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secure licensing transactio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2004 AEShareNet Lt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23:04:09Z</dcterms:created>
  <dc:creator>Carol Fripp</dc:creator>
  <dc:description/>
  <dc:language>en-US</dc:language>
  <cp:lastModifiedBy>jasons</cp:lastModifiedBy>
  <dcterms:modified xsi:type="dcterms:W3CDTF">2004-06-21T00:30:31Z</dcterms:modified>
  <cp:revision>7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4352334</vt:r8>
  </property>
  <property fmtid="{D5CDD505-2E9C-101B-9397-08002B2CF9AE}" pid="3" name="_AuthorEmail">
    <vt:lpwstr>Henderson.Aphrodite@saugov.sa.gov.au</vt:lpwstr>
  </property>
  <property fmtid="{D5CDD505-2E9C-101B-9397-08002B2CF9AE}" pid="4" name="_AuthorEmailDisplayName">
    <vt:lpwstr>Henderson, Aphrodite (DFEEST)</vt:lpwstr>
  </property>
  <property fmtid="{D5CDD505-2E9C-101B-9397-08002B2CF9AE}" pid="5" name="_EmailSubject">
    <vt:lpwstr/>
  </property>
  <property fmtid="{D5CDD505-2E9C-101B-9397-08002B2CF9AE}" pid="6" name="_PreviousAdHocReviewCycleID">
    <vt:r8>686271010</vt:r8>
  </property>
</Properties>
</file>