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A03-442D-48E8-B748-C4B7FF83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2F6-57A3-417D-8FA9-6D75BC8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AEF-FEEF-4923-B56F-0130B131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806-6228-4503-A7CE-05F79894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176-0ABE-4A3A-9C4C-9A3DA1EB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0A6-DE06-430C-9E33-AC82575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255-E5E4-4C54-B243-4C73690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498-BABE-43CF-9D20-8DDA6C8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A26-2FB8-430F-93F0-749E58F5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693-7BF5-4651-B1B4-225BAB4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D92-FB4E-482E-8B2F-CF254F6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426-A60F-4317-8FE5-49A8BBB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7EAE-1B5D-4EBF-8D6C-E2A8C5C7D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owerPoint%20-%20Library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1752480"/>
            <a:ext cx="62485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eac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 w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ed to the concepts of preplanning and discussion of information skills required with library staff as part of the teaching and learning proces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werPoint%20-%20Library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1752480"/>
            <a:ext cx="6248520" cy="426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im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iarise first year students wi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basic study and research skills to first yea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 students of further suppor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 students uptake of information literacy skills that would enable them to be independent learners focusing on Standard 1 &amp; Standar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owerPoint%20-%20Library01" descr=""/>
          <p:cNvPicPr/>
          <p:nvPr/>
        </p:nvPicPr>
        <p:blipFill>
          <a:blip r:embed="rId1"/>
          <a:stretch/>
        </p:blipFill>
        <p:spPr>
          <a:xfrm>
            <a:off x="-76320" y="15228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4880" y="164160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752480"/>
            <a:ext cx="6248520" cy="426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dence to begin study and resear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information literacy skills relating to Standard 1 &amp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ood about the support services available at CIT and location of the staff who could as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werPoint%20-%20Library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82880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752480"/>
            <a:ext cx="6248520" cy="27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ear 12 Information Literacy Pilot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n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owerPoint%20-%20Library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905120"/>
            <a:ext cx="6400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752480"/>
            <a:ext cx="6248520" cy="371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ead of Department and teaching staff wish to extend sessions to other subjects such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hematic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stralian Stud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owerPoint%20-%20Librar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1905120"/>
            <a:ext cx="6400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6248520" cy="43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Skills training sessions were tailored to the subject and student needs as identified by teaching and library staff and cov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ting started with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brary Cat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ebCT Study Tools mod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owerPoint%20-%20Library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4880" y="164160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62485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 literacy features strongly on the CIT Strategic Plan, the Learning Services Division Business Plan and the Library &amp; Learning Centre Operational Pl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2962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75248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owerPoint%20-%20Library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1752480"/>
            <a:ext cx="62485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52480"/>
            <a:ext cx="6248520" cy="421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brary staff were upbeat in their instruc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incorporate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hands on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struction for students on how to save work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and animation for fun an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owerPoint%20-%20Library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175248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752480"/>
            <a:ext cx="6248520" cy="421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servations on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efits to student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world is co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e is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ut 50% of students benefit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did return to use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did come back to the Library for additional help and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owerPoint%20-%20Library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175248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752480"/>
            <a:ext cx="6248520" cy="426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ces in delive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brary staff went directly to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in a computer lab may become dis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sessions aimed to be as interactive and practical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ians become collaborative partners working directly with teaching staff and from curriculum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werPoint%20-%20Library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82880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 course at CIT involves collecting, evaluating and using information in some meaningful way.  Learners are required to master these skills in order to successfully complete educational endeav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werPoint%20-%20Library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905120"/>
            <a:ext cx="6400800" cy="433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Key vehicles to the implementation of Information Literacy at CIT have bee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T Strategic Plan 2002 –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ivision &amp; Faculty Business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partment &amp; Unit Business P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IT Information Literacy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tees &amp;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owerPoint%20-%20Librar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905120"/>
            <a:ext cx="6400800" cy="42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was the result of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al development of library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keting and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ve planning and team tea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workplace that fost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suppor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owerPoint%20-%20Library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905120"/>
            <a:ext cx="6172200" cy="42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provide appropriate opportunities for staff and students to develop and enhance their information literacy and communication technology skills to meet the needs of the knowledge socie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owerPoint%20-%20Library0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1752480"/>
            <a:ext cx="62485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increase information literacy teaching and learning opportunities with the Faculti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werPoint%20-%20Library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752480"/>
            <a:ext cx="6248520" cy="37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velop information literacy levels through learning partnerships with Facult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e as an equal partner with Faculties to implement the information literac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CIT staff Information Literacy Skills and learning opportunitie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owerPoint%20-%20Library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1752480"/>
            <a:ext cx="6248520" cy="42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2004, 20% of courses submitted for re-accreditation are to contain assessment that measures information literacy attai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2008, 100% of all programs will identify the attainment of information literacy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00:09:39Z</dcterms:created>
  <dc:creator>CIT</dc:creator>
  <dc:description/>
  <dc:language>en-US</dc:language>
  <cp:lastModifiedBy>ElenaB</cp:lastModifiedBy>
  <dcterms:modified xsi:type="dcterms:W3CDTF">2004-07-08T00:54:34Z</dcterms:modified>
  <cp:revision>16</cp:revision>
  <dc:subject/>
  <dc:title>PowerPoint Presentation</dc:title>
</cp:coreProperties>
</file>