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C3E-6651-476E-88C1-C6BC570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6C6-169B-4357-9C03-B13C910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84F-A9A2-48C2-AAC4-AB8F21EE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C6B-BC45-47C0-878E-156CBBC4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035-9700-4D20-A318-F80F225D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789-A338-4EE5-A13E-3B5792CD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F5A3-0620-4B39-8D14-05EE832B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A87-291A-4AB1-998F-C9BDE9B2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F531-A3C8-4C8A-98FC-66F29D5C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E40A-265F-4A5D-83BA-7CB4C1F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EB33-7A73-403E-9E3F-5D35BB65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16D-75B8-41D8-9400-735F3AEC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8F35-66D5-45D2-9EFC-676ED92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EB26-2EE9-4DC5-BB81-9C01FBA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7C34-86D2-4670-A6E5-64221AA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8C47-9C0E-4931-A199-BEA3D3DF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2AD-A008-4749-9383-D21B9038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D61-9F57-4629-84CB-7FEF365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066-2C2C-42E7-B367-57DD11D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B55-B44C-4251-92AF-3EA74E7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D96-366A-4846-A4A4-39ED81C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A21-EC1E-4C44-A4FD-86BA65F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118-541E-40CE-9CC6-5668D46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B32-2601-468F-9832-2D36FDE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9F8-2DF7-4AA9-B338-B013A9DB1E5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3707-A12A-4ED0-9220-50B617E5E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914D-B3E5-4E72-9342-96321C884E4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25D-4F0A-40DA-9AD6-80745D011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790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Performance Planning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6720" y="27432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Information Commons Holmesglen Institute of T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304920"/>
          <a:ext cx="1352520" cy="11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3525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238880" y="304920"/>
          <a:ext cx="167652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304920"/>
                    <a:ext cx="16765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EE29-6570-43B2-BEB9-6D97FD0110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29A724-2008-490F-8741-DF25C02B7BE3}" type="datetime1">
              <a:rPr lang="en-US"/>
              <a:t>07/30/26</a:t>
            </a:fld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stitute Working Par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‘reward’ or ‘disciplinary proces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for self-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and delivers additional training where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where managers &amp; staff discuss &amp; agree on prior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E52-EEFD-490D-B8A2-8F9AA37668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F49BB-4AB9-402A-A8EE-6EB06A9D0CE7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Tria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training &amp; why it’s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o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3EF-307F-4131-9A43-E9B3283326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D3135-DAAF-4A3F-9924-961F54D6F36A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Outcomes of Feed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onths too s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time-consu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re-interview preparation tim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aisal’ confronting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rated as ‘satisfactor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15C-6C4D-4A52-A2B7-EF012B26B3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93877-FA68-47D4-9895-D7FDBF62117F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lting Improvement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month time-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re-designed to change  concept of ‘appraisal’ to ‘planning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7D1-423A-4047-A9C9-41D9C573E4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844A9-76CA-46E2-B76E-F6DF088D1640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urther refinem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ll staff feedback from Strategic Planning days in 2002 &amp;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clearly align PP strategy with IC Strategic Plan, to ensure ‘fit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extend form to enable lengthier com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238-4585-4953-A90B-32F0FEDCA5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A79AB-2B11-4F5E-8B19-AA1AF526850A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urther refinem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need identified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agers in ‘the Interview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staff in KPI form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24E-9713-4E31-B543-F622529F6C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F4252-23A1-4D4C-9071-98DC977517B1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Strategic Pla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t f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E76-48CD-426D-8B99-8D1C0EAF99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779F-DFAC-4760-B8B3-C501A4FD7361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Key Performance Indicato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-b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396-7DAB-415C-8DE9-C99656EE3D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6714F-BFF7-4E6E-8ABE-14542847032E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ere to from here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one own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commit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0A0-4F8E-4FD5-AA1F-BA95B7EC35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E8C10-0708-46EF-92EC-2D407437F52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y candid view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2D4-C3A6-4318-94E6-44E23736C57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A1C92-B8B2-4D28-BF11-AA44C7DC31C9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like to share my thoughts about performance planning in a library environment and discuss its implications, in term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efficienc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304920"/>
          <a:ext cx="106704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0670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DBC-FE1B-4393-8136-0EEC4427F1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87C80-6005-48F4-91EA-B01D12429865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hank you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657240" y="22860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ope you have enjoyed my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E66A-3CD6-4B4B-9A28-81C55252FF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FDA52A-207C-4947-A70C-ED35A6E60F9C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y paper will cove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rformance planning was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od, the bad and th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 have lear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are now &amp; where we are go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04920"/>
          <a:ext cx="99072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9907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4C3-3660-4C41-937E-1744DA23D3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8916F-7D7A-4898-9E36-C168D54D501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lmesglen Institute of TA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arted in 19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87 Overseas Education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ne of the largest TAFEs in 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ver 10, 900,000 SCH in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ffering degrees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rategic Plan focuses on access, excellence and 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C7B-5A68-4133-9202-8F85396904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8EDB5-B0F3-4495-9FB0-CB5F66002A8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Information Comm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echnology physic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branches over three camp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emphasis on remote access to services and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 staff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es seven days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625-CDAF-4E97-B0A0-CD978799A6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6FFC2-DCD5-43AD-A30F-212115E031E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ffing Structur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, Information Comm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ager, Client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stems/Technical Services 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anch Manag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enior Management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5CE-2FA4-464C-BBFD-77679C07A1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1E132-0FDC-498F-AAB6-09CCC4FD58BE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ffing Structur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ittees across four bra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Technical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Lending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eLe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</a:rPr>
              <a:t>Liaison Libraria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59B-2A89-4A21-99D5-D5A523A0F3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496DE-1674-4762-B3FC-4C6A405BA131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formance Plann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d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bra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brary sta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D22-8886-48E3-AFF0-9552792AFB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D044E-87C4-487A-947A-5FFC4E55F40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l appraisal not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we grew and changed staff  needed a clearer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e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husiastic guinea pi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304920"/>
          <a:ext cx="11430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B87-90E7-4E93-8FC0-D74A3E7826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9848E-4F6B-49A3-B116-F386D8B91D9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sentation</cp:lastModifiedBy>
  <dcterms:modified xsi:type="dcterms:W3CDTF">2004-07-02T02:05:48Z</dcterms:modified>
  <cp:revision>12</cp:revision>
  <dc:subject/>
  <dc:title>PowerPoint Presentation</dc:title>
</cp:coreProperties>
</file>