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C95-3AEB-4581-8FD2-5EE58D07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CF8-8746-4997-9C29-05135EB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13F-7334-48A5-ACA3-847F4CBB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966-1665-4236-9220-8791F9B9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5804-46A6-48F4-9313-E6E5D47C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CCB0-53F1-4AA7-A057-DB8183E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DF98-7C3D-4BB7-86DE-B1DEBE75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F2E0-5E72-4F96-967C-3420D5E0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35C4-E7A8-42B5-9C95-851BC743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10B7-28EC-4443-975B-2CCA483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6E44-EAAB-4960-9469-C81627EB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EEC-786C-43DF-86DE-25FEC5D2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0A8E-7288-42D6-8091-ECC438A5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019C-B5D3-4D2C-B90C-0C8556F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3F18-B97E-4090-AA2D-3BB99B40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A2A0-4867-48ED-BBDD-98D7C8B2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9A7A-5B09-44F2-B6E3-D1A3E6C3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E16-FC6A-4ACF-A9D5-2F699F3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C15-20C6-47AF-B9E4-AE142CC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EF6-5B77-4CF5-AAAF-33FD21F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559-A7C9-43DE-9EB0-732432BF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0CA-2B67-40A3-99CD-BA4C048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3ED-0AD9-4FCF-B87B-C1212481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04A-D9AA-42E5-8D4F-23DEADE5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6E9E-1E8E-4122-80B3-1E08494C06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914B-BC04-4E82-BC75-8B2B81D63F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ibrary services, Gen X &amp; Gen Y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4114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ny Braybroo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of Business Information Technolog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MIT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bcbcb"/>
                </a:solidFill>
                <a:latin typeface="Times New Roman"/>
              </a:rPr>
              <a:t>Problem 2 – </a:t>
            </a:r>
            <a:r>
              <a:rPr b="0" lang="en-AU" sz="4000" spc="-1" strike="noStrike">
                <a:solidFill>
                  <a:srgbClr val="cbcbcb"/>
                </a:solidFill>
                <a:latin typeface="Times New Roman"/>
              </a:rPr>
              <a:t>Quality vs Availabilit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dency to compromise on quality in favour of ease of access, low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lity to discriminat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alues the research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bcbcb"/>
                </a:solidFill>
                <a:latin typeface="Times New Roman"/>
              </a:rPr>
              <a:t>Problem 3 –  </a:t>
            </a:r>
            <a:r>
              <a:rPr b="0" lang="en-AU" sz="4000" spc="-1" strike="noStrike">
                <a:solidFill>
                  <a:srgbClr val="cbcbcb"/>
                </a:solidFill>
                <a:latin typeface="Times New Roman"/>
              </a:rPr>
              <a:t>Short vs long term view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endency towards short ter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immediate need”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over longer term investment of time and effort in lear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bout “lifelong learning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rning style prefer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logy ba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ly orien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re for customised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hreshold of bored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involvement in lear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y does it matter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Students are more motivated and learn better wh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instruction’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matches their preferred learning sty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me ideas for IL trai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hasise outcomes not techn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a range of learning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learning experient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e into other teaching where poss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group work an op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d in feedback + measurable crite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olve your Gen X &amp; Y staff in planning and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nform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ource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&amp; services provided by libraries to student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viewed as commod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standing the likely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patterns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ehaviou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ttitude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xpectations of our customer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help libraries remain relevant into the fu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Generation 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Baby busters; Twentysomethings; Why Me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orn between 1961 (1965?) and 198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Generation 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eneration Next; Digital Generation; Millennials; Y2Ki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orn after 198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enerational differences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 X – “disillusioned, pessimistic, sceptical, individualistic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 Y – “positive outlook, confident, goal-oriented, short attention span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5638680"/>
            <a:ext cx="8458200" cy="1219320"/>
            <a:chOff x="0" y="5638680"/>
            <a:chExt cx="8458200" cy="1219320"/>
          </a:xfrm>
        </p:grpSpPr>
        <p:sp>
          <p:nvSpPr>
            <p:cNvPr id="96" name=""/>
            <p:cNvSpPr/>
            <p:nvPr/>
          </p:nvSpPr>
          <p:spPr>
            <a:xfrm>
              <a:off x="0" y="5638680"/>
              <a:ext cx="3200400" cy="30492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46080" bIns="46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sumer marketing conce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800" y="594360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n what does this cohort spend its money?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ow are purchasing decisions mad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w can products be pitched to appeal to them?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d similaritie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rly adopters of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degree of technical compet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erning purcha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phisticated consu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ue personalised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tailor service/product to fit n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po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instant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immediate task/ne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ectations of Gen X and 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Instant gratif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asy access, “short cuts”, feedb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Service customised to their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What I want, when I want 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ow I want it, where I want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articipation within broad commun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ased on common experiences, val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re TAFE libraries doing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Library web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PAC + extended beyond home institu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ther borrowing functions – holds, renew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lectronic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Guides to resources (pathfinders, infogat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re-digested – selected, evaluated, packag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re TAFE libraries doing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Other services &amp;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lectronic notification of overd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mail and chat reference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xtended opening ho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quipment - PCs, printers, scanners…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ree Web, email, chat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atapoints,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tudy/ meeting spa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re TAFE libraries doing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nstruction/ tr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Online tutori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nformation literacy skill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Searching the catalogue/ databases/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Citations / Referencing/ Style guid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esearch hel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eneric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ssay wri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Time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Oral presen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e-to-face workshops/ training s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 1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- Information seeking skill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dency to over-estimate ability to find, critically evaluate and use suitable information 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 strategy sk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ible u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Kate Manuel “Teaching information literacy to Generation Y.”  </a:t>
            </a: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Journal of library administration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, vol. 36, no. 1/2, 2002, pp. 195-2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ilip Calvert “Web-based misinformation …”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sian librari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vol.8, no.3, 1999, pp.93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6:14:52Z</dcterms:created>
  <dc:creator>BUSINESS ONLINE</dc:creator>
  <dc:description/>
  <dc:language>en-US</dc:language>
  <cp:lastModifiedBy>jasons</cp:lastModifiedBy>
  <dcterms:modified xsi:type="dcterms:W3CDTF">2004-06-29T07:14:07Z</dcterms:modified>
  <cp:revision>79</cp:revision>
  <dc:subject/>
  <dc:title>Library services to Gen X &amp; Y</dc:title>
</cp:coreProperties>
</file>