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B5F-589B-4A81-874F-9E4CD77A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911-BA83-4CBC-9313-F0DA59CF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80B-511B-4C7E-A74B-58677A2B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7C8-23A8-4322-AB20-A091DA60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F95-2250-41A3-829F-2907E5E6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285-5313-4B26-ADC8-ACA9FB6C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FC7-4766-48FB-801F-CAEB51FE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0E4-E103-406C-A7AE-4FC77301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424-237E-436E-AC09-B5E75476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3D3-7D84-4A3A-9BFF-BEE650E5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E9B-8F80-4DEE-9273-EB0AFDD2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8CF-953C-4556-BDAA-94904DDA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4C15-C0E3-48CE-9F18-4434FB90507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LIAISON NEWSLETTERS-</a:t>
            </a:r>
            <a:br>
              <a:rPr sz="3600"/>
            </a:b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Old Concepts, New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838600"/>
            <a:ext cx="655308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66"/>
                </a:solidFill>
                <a:latin typeface="Arial"/>
              </a:rPr>
              <a:t>Sarah Cavana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66"/>
                </a:solidFill>
                <a:latin typeface="Arial"/>
              </a:rPr>
              <a:t>Information Services Libr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66"/>
                </a:solidFill>
                <a:latin typeface="Arial"/>
              </a:rPr>
              <a:t>Waverley Branch Information Comm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66"/>
                </a:solidFill>
                <a:latin typeface="Arial"/>
              </a:rPr>
              <a:t>Holmesglen Institute of T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66"/>
                </a:solidFill>
                <a:latin typeface="Arial"/>
              </a:rPr>
              <a:t>sarahc@holmesglen.vic.edu.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41008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Liaison Newsletters: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Keeping you in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22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MANAGING THE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7429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tion schedule of news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purchases circulated month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odicals section custo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 sharing/idea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1008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Liaison Newsletters: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Keeping you in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2057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3. Timing &amp; Streamlining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444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REVIEWING THE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920" y="228564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66"/>
                </a:solidFill>
                <a:latin typeface="Arial"/>
              </a:rPr>
              <a:t>In reviewing the service we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n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n use of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n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n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Liaison Newsletters: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Keeping you in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28195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2767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77208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422928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029200"/>
            <a:ext cx="67820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AU" sz="3200" spc="-1" strike="noStrike">
                <a:solidFill>
                  <a:srgbClr val="003366"/>
                </a:solidFill>
                <a:latin typeface="Arial"/>
              </a:rPr>
              <a:t>Formal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mplement statistical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onduct focus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447920" y="19368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of newsletters has increased from 16 to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inued integral part of Information Common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ackbookmark" descr=""/>
          <p:cNvPicPr/>
          <p:nvPr/>
        </p:nvPicPr>
        <p:blipFill>
          <a:blip r:embed="rId2"/>
          <a:stretch/>
        </p:blipFill>
        <p:spPr>
          <a:xfrm>
            <a:off x="774720" y="3898800"/>
            <a:ext cx="7448400" cy="2001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2857680" y="552600"/>
            <a:ext cx="33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08160" y="609588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Liaison Newsletters: Keeping you in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76560" y="5335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AT HOLMESLGEN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0"/>
            <a:ext cx="624852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urrent structure one liaison librarian to one or two cen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aison Librarians participat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ect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ormation lite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-depth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8160" y="541008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Liaison Newsletters: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Keeping you in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REASON FOR LIAISON NEWSL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2209320"/>
            <a:ext cx="784872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66"/>
                </a:solidFill>
                <a:latin typeface="Arial"/>
              </a:rPr>
              <a:t>Sessional and part-time teachers disadvant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66"/>
                </a:solidFill>
                <a:latin typeface="Arial"/>
              </a:rPr>
              <a:t>Increasing number of new serv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Online reference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Onlin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nformation lite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ncreasing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41008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Liaison Newsletters: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Keeping you in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The Life of a TAFE</a:t>
            </a:r>
            <a:br>
              <a:rPr sz="3600"/>
            </a:b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Liaison Librar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1974960"/>
            <a:ext cx="7620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oombe mentions that three general conclusions on the significance of liaison work can be reached, they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The “marketing” of the library to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Two-way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The need for close relations in order to gel the whole teaching learn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1008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Liaison Newsletters: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Keeping you in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3400" y="6248520"/>
            <a:ext cx="647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ombe, Tracey 1996, ‘The Changing Role of the Subject Librarian with Particular Reference to the Social Sciences.’ MSc thesis, University of Sheffield.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752480"/>
            <a:ext cx="6058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OLD CONCEPT……..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Newsle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8640" y="3476520"/>
            <a:ext cx="70866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66"/>
                </a:solidFill>
                <a:latin typeface="Arial"/>
              </a:rPr>
              <a:t>NEW APPROACH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Online customised </a:t>
            </a:r>
            <a:br>
              <a:rPr sz="4400"/>
            </a:b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41008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Liaison Newsletters: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Keeping you in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ESTABLISHING THE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Purc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iod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Page as the web authoring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ledge of scan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py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reakdown of liaiso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1008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Liaison Newsletters: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Keeping you in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TRIALLING THE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251424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sitive response to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sults of the trial indica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ining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managemen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41008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Liaison Newsletters: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Keeping you in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MANAGING THE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3123720"/>
            <a:ext cx="65912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al tr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-on-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uction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1008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Liaison Newsletters: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Keeping you in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1337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1. Training of Liaison Librari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MANAGING THE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3048120"/>
            <a:ext cx="609588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act sessional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t Departmental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ld staff training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duct one-on-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onstrate in ori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frontbookmark" descr=""/>
          <p:cNvPicPr/>
          <p:nvPr/>
        </p:nvPicPr>
        <p:blipFill>
          <a:blip r:embed="rId2"/>
          <a:stretch/>
        </p:blipFill>
        <p:spPr>
          <a:xfrm>
            <a:off x="1467000" y="2133720"/>
            <a:ext cx="1218960" cy="4343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541008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Liaison Newsletters: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Keeping you in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2209680"/>
            <a:ext cx="52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2. Marketing &amp; pro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0:32:29Z</dcterms:created>
  <dc:creator>Computer Services Department</dc:creator>
  <dc:description/>
  <dc:language>en-US</dc:language>
  <cp:lastModifiedBy>presentation</cp:lastModifiedBy>
  <dcterms:modified xsi:type="dcterms:W3CDTF">2004-07-02T05:16:48Z</dcterms:modified>
  <cp:revision>21</cp:revision>
  <dc:subject/>
  <dc:title>LIAISON NEWSLETTERS- Old Concepts, New Approach</dc:title>
</cp:coreProperties>
</file>