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8.jpeg" ContentType="image/jpe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28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D754-F227-4978-BF19-B6DBEF441F4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CD58-D9F5-45DB-AFDA-79C63F7A4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79280" y="36500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1AF5-0296-4D9C-BF11-9A1F247C0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6500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4960" y="36500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B44C-9AB0-45FA-B65B-0744292B7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9880" y="1142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0840" y="1142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79280" y="36500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9880" y="36500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0840" y="36500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DA89-3661-49F3-AAB4-8FA7B410E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79640" y="358560"/>
            <a:ext cx="699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79280" y="36500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266D-7586-4968-BF8D-F1DD4332F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44960" y="36500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79280" y="36500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79280" y="36500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79280" y="36500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44960" y="36500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29880" y="1142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0840" y="1142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79280" y="36500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29880" y="36500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0840" y="36500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0B56-BE86-4E6E-8C61-21B89EE65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F4BA-C5CD-4337-94B4-683DDA910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89A5-EEE2-47DB-88A8-344BAD432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79640" y="358560"/>
            <a:ext cx="699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5AAF-1BE8-4821-9246-6CACDF177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79280" y="36500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ACB1-577E-4FE7-897B-0C50F886A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4960" y="36500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FDFC-9A7A-44CC-A120-E23D42A00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4960" y="1142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79280" y="36500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9AEA-9CE8-4BE4-920A-661EB4441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8E03-CF16-4754-A2AA-59AB342F35C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43000" y="9907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70632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62120" indent="-285840">
              <a:spcBef>
                <a:spcPts val="1400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76200" indent="-228600">
              <a:spcBef>
                <a:spcPts val="1400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95600" indent="-228600">
              <a:spcBef>
                <a:spcPts val="1400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114640" indent="-228600">
              <a:spcBef>
                <a:spcPts val="1400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114640" indent="-228600">
              <a:spcBef>
                <a:spcPts val="1400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114640" indent="-228600">
              <a:spcBef>
                <a:spcPts val="1400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776920"/>
            <a:ext cx="215892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2437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2158920" y="0"/>
            <a:ext cx="2158920" cy="2158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85080" y="4699080"/>
            <a:ext cx="2158920" cy="2158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43172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60720" cy="431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133200" algn="ctr">
              <a:spcBef>
                <a:spcPts val="1001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indent="95400" algn="ctr"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indent="57240" algn="ctr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 indent="5724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 indent="5724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xlibris-usa.com/metalib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xlibris-usa.com/metalib.htm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xlibris-usa.com/sfx.htm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aarlin.edu.au/" TargetMode="External"/><Relationship Id="rId2" Type="http://schemas.openxmlformats.org/officeDocument/2006/relationships/hyperlink" Target="mailto:tdavies@swin.edu.au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437920" y="3733560"/>
            <a:ext cx="4419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ony Dav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438280" y="2437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ARLIN, Metalib &amp; SFX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reamlining inform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21 participating universiti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9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Australian Defence Force Academ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Central Queensland Univers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arles Darwin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Univers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Edith Cowan Univers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Flinders Univers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James Cook Univers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La Trobe Univers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Monash Univers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Murdoch Univers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RMIT Univers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7680" y="11426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Swinburne Universi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y of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niversity of Adelai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niversity of Ballarat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niversity of Canberra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niversity of Melbourn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niversity of New England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niversity of South Australia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niversity of Southern Queensland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niversity of Tasmania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University of Wollongong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Victoria Univers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0" y="2362320"/>
            <a:ext cx="44197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arch across a range of databases, catalogues, search engines etc. using a standard search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809880"/>
            <a:ext cx="4419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ew and use results in a standard form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952880"/>
            <a:ext cx="44197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 from results to full text content and other services such as interlibrary loan wher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79640" y="358920"/>
            <a:ext cx="699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AARLIN servi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219320"/>
            <a:ext cx="4419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te appropriate resources to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1600200"/>
            <a:ext cx="0" cy="3809880"/>
          </a:xfrm>
          <a:prstGeom prst="line">
            <a:avLst/>
          </a:prstGeom>
          <a:ln w="9360">
            <a:solidFill>
              <a:srgbClr val="00cc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0" y="2362320"/>
            <a:ext cx="44197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arch across a range of databases, catalogues, search engines etc. using a standard search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3809880"/>
            <a:ext cx="4419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ew and use results in a standar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952880"/>
            <a:ext cx="44197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 from results to full text content and other services such as interlibrary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79640" y="358920"/>
            <a:ext cx="699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1219320"/>
            <a:ext cx="4419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te appropriate resources to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600200"/>
            <a:ext cx="0" cy="3809880"/>
          </a:xfrm>
          <a:prstGeom prst="line">
            <a:avLst/>
          </a:prstGeom>
          <a:ln w="9360">
            <a:solidFill>
              <a:srgbClr val="00cc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143000"/>
            <a:ext cx="6553440" cy="3581280"/>
          </a:xfrm>
          <a:prstGeom prst="rect">
            <a:avLst/>
          </a:prstGeom>
          <a:noFill/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rcRect l="5217" t="0" r="5217" b="0"/>
          <a:stretch/>
        </p:blipFill>
        <p:spPr>
          <a:xfrm>
            <a:off x="6858000" y="2514600"/>
            <a:ext cx="1790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2362320"/>
            <a:ext cx="44197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arch across a range of databases, catalogues, search engines etc. using a common search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809880"/>
            <a:ext cx="4419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ew and use results in a standar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952880"/>
            <a:ext cx="44197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 from results to full text content and other services such as interlibrary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9640" y="358920"/>
            <a:ext cx="699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1219320"/>
            <a:ext cx="4419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te appropriate resources to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1600200"/>
            <a:ext cx="0" cy="3809880"/>
          </a:xfrm>
          <a:prstGeom prst="line">
            <a:avLst/>
          </a:prstGeom>
          <a:ln w="9360">
            <a:solidFill>
              <a:srgbClr val="00cc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1143000"/>
            <a:ext cx="6553440" cy="3581280"/>
          </a:xfrm>
          <a:prstGeom prst="rect">
            <a:avLst/>
          </a:prstGeom>
          <a:noFill/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rcRect l="5217" t="0" r="5217" b="0"/>
          <a:stretch/>
        </p:blipFill>
        <p:spPr>
          <a:xfrm>
            <a:off x="6858000" y="2514600"/>
            <a:ext cx="1790640" cy="892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09680" y="4876920"/>
            <a:ext cx="6553440" cy="1371600"/>
          </a:xfrm>
          <a:prstGeom prst="rect">
            <a:avLst/>
          </a:prstGeom>
          <a:noFill/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5105520"/>
            <a:ext cx="170172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AARLIN search porta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11336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Metalib &amp; AARLI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345440" cy="28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 Metalib software is installed on the AARLIN servers at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La Trobe Univers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ach institution has its own “instance” of the Metalib software which can be customi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Each institution’s Metalib only searches that institution’s resour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769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155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369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ARLIN Projec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ARLIN portal software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ARLIN linking softw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3695760" cy="1052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59280" y="2997360"/>
            <a:ext cx="2590920" cy="869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76720" y="4149720"/>
            <a:ext cx="2087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25560" y="-1908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25560" y="-1908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7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1" name=""/>
          <p:cNvSpPr/>
          <p:nvPr/>
        </p:nvSpPr>
        <p:spPr>
          <a:xfrm flipV="1">
            <a:off x="2124000" y="4508280"/>
            <a:ext cx="64764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068640"/>
            <a:ext cx="1008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25560" y="-19080"/>
            <a:ext cx="9169560" cy="687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067280" y="3284640"/>
            <a:ext cx="936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5560" y="-19080"/>
            <a:ext cx="9169560" cy="6877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H="1">
            <a:off x="3779640" y="1628640"/>
            <a:ext cx="115236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FX – Context sensitive linking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1734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What is AARLIN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9640" y="1412640"/>
            <a:ext cx="70214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treamline access to information by providing a single easy to use search portal providing access to the complete range of library resour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ARLIN project has been developed in two stag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62120" indent="-285840"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2001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Pilot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62120" indent="-285840"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2002-04 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21 universities are participating memb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ased at La Trobe Univers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260280"/>
            <a:ext cx="36957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Context sensitive linking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inking between online resources has been around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or a whi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e problem is that a lot of links were duds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eading to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6212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pages that had disappea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6212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pages you weren’t allowed to acc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at we need are </a:t>
            </a:r>
            <a:r>
              <a:rPr b="0" i="1" lang="en-AU" sz="2800" spc="-1" strike="noStrike">
                <a:solidFill>
                  <a:srgbClr val="000000"/>
                </a:solidFill>
                <a:latin typeface="Arial Narrow"/>
              </a:rPr>
              <a:t>appropriate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 links, links that only appear when they lead to content or a service that is available to the us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hat’s what SFX do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237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FX menu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45133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33336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30600" y="0"/>
            <a:ext cx="4613400" cy="6518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40000" y="1557360"/>
            <a:ext cx="2376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580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FX menu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87560" cy="6337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206064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43560" y="0"/>
            <a:ext cx="4600440" cy="6238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780000" y="234936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580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FX menu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71960" y="0"/>
            <a:ext cx="5972040" cy="6334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63640" y="3068640"/>
            <a:ext cx="1584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6237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FX menu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6237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FX menu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5080" y="0"/>
            <a:ext cx="4498920" cy="6205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932360" y="6237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SFX menu for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70280" y="0"/>
            <a:ext cx="4473720" cy="6167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11280" y="6165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rticle with fu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623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rticle with no fu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70280" y="0"/>
            <a:ext cx="4473720" cy="6167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11280" y="6165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rticle with fu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19640" y="623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Article with no fu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59280" y="2133720"/>
            <a:ext cx="252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The need for AARLIN…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ducational institutions are spending huge amounts on online information resour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Yet a recent study showed that 45% of students start their research using Goog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Only 10% start with the library catalog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Reasons for using Google: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easy to use, always get resul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AU" sz="2000" spc="-1" strike="noStrike">
                <a:solidFill>
                  <a:srgbClr val="000000"/>
                </a:solidFill>
                <a:latin typeface="Arial Narrow"/>
              </a:rPr>
              <a:t>Source: EDNER Issues Paper (8) 200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6165720"/>
            <a:ext cx="2268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189000"/>
            <a:ext cx="43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56720" y="260280"/>
            <a:ext cx="86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12000" y="0"/>
            <a:ext cx="1152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70280" y="0"/>
            <a:ext cx="4473720" cy="6167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24000" y="623736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Logged in as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623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Logged in as undergrad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167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165720"/>
            <a:ext cx="2268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59640" y="189000"/>
            <a:ext cx="43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260280"/>
            <a:ext cx="86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12000" y="0"/>
            <a:ext cx="1152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70280" y="0"/>
            <a:ext cx="4473720" cy="6167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116000" y="6237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Logged in as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623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Logged in as undergrad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2060640"/>
            <a:ext cx="27370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penURL mod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219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URL Sour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eg, Metali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1219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URL Targ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eg, online data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438280" cy="1865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1044360" cy="1463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553080" y="2209680"/>
            <a:ext cx="1073160" cy="1541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438280" y="289548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2895480"/>
            <a:ext cx="1904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267080"/>
            <a:ext cx="3276360" cy="8254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talib sends an OpenURL to Swinburne’s SF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4267080"/>
            <a:ext cx="3810240" cy="15570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FX checks Swinburne’s knowledgebase and presents appropriate services o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FX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12193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URL Resol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eg, SF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ample of an OpenUR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ttp://aarlina.lib.latrobe.edu.au:9003/swinburne2?sid=metalib:EBSCO_APH&amp;id=doi:&amp;genre=&amp;isbn=&amp;issn=0956-7976&amp;date=2004&amp;volume=15&amp;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ssue=7&amp;spage=437&amp;epage=&amp;aulast=Shaffer&amp;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ufirst=%20Dennis%20M&amp;auinit=&amp;title=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sychological%20Science&amp;atitle=How%20Dogs%20Navigate%20to%20Catch%20Frisbees%2E&amp;sici=&amp;__service_type=&amp;pid=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ample of an OpenUR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a4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http://aarlina.lib.latrobe.edu.au:9003/swinburne2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?sid=metalib:EBSCO_APH&amp;id=doi:&amp;genre=&amp;isbn=&amp;issn=0956-7976&amp;date=2004&amp;volume=15&amp;</a:t>
            </a:r>
            <a:br>
              <a:rPr sz="2400"/>
            </a:b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issue=7&amp;spage=437&amp;epage=&amp;aulast=Shaffer&amp;</a:t>
            </a:r>
            <a:br>
              <a:rPr sz="2400"/>
            </a:b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aufirst=%20Dennis%20M&amp;auinit=&amp;title=</a:t>
            </a:r>
            <a:br>
              <a:rPr sz="2400"/>
            </a:b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Psychological%20Science&amp;atitle=How%20Dogs%20Navigate%20to%20Catch%20Frisbees%2E&amp;sici=&amp;__service_type=&amp;pid=</a:t>
            </a:r>
            <a:br>
              <a:rPr sz="2400"/>
            </a:b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ocation of Swinburne’s SF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ample of an OpenUR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http://aarlina.lib.latrobe.edu.au:9003/swinburne2?sid=metalib:EBSCO_APH&amp;id=doi:&amp;</a:t>
            </a: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genre=article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isbn=&amp;</a:t>
            </a: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issn=0956-7976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</a:t>
            </a: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date=2004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</a:t>
            </a: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volume=15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</a:t>
            </a:r>
            <a:br>
              <a:rPr sz="2400"/>
            </a:b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issue=7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</a:t>
            </a: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spage=437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epage=&amp;</a:t>
            </a: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aulast=Shaffer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</a:t>
            </a:r>
            <a:br>
              <a:rPr sz="2400"/>
            </a:b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aufirst=%20Dennis%20M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auinit=&amp;</a:t>
            </a: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title=</a:t>
            </a:r>
            <a:br>
              <a:rPr sz="2400"/>
            </a:b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Psychological%20Science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</a:t>
            </a:r>
            <a:r>
              <a:rPr b="1" lang="en-AU" sz="2400" spc="-1" strike="noStrike">
                <a:solidFill>
                  <a:srgbClr val="00a479"/>
                </a:solidFill>
                <a:latin typeface="Arial"/>
              </a:rPr>
              <a:t>atitle=How%20Dogs%20Navigate%20to%20Catch%20Frisbees%2E</a:t>
            </a:r>
            <a:r>
              <a:rPr b="1" lang="en-AU" sz="2400" spc="-1" strike="noStrike">
                <a:solidFill>
                  <a:srgbClr val="b2b2b2"/>
                </a:solidFill>
                <a:latin typeface="Arial"/>
              </a:rPr>
              <a:t>&amp;sici=&amp;__service_type=&amp;pid=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ample of an OpenUR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79640" y="1143000"/>
            <a:ext cx="7092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http://aarlina.lib.latrobe.edu.au:9003/swinburne2?sid=metalib:EBSCO_APH&amp;id=doi:&amp;</a:t>
            </a: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genre=article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isbn=&amp;</a:t>
            </a: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issn=0956-7976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</a:t>
            </a: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date=2004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</a:t>
            </a: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volume=15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</a:t>
            </a:r>
            <a:br>
              <a:rPr sz="2000"/>
            </a:b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issue=7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</a:t>
            </a: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spage=437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epage=&amp;</a:t>
            </a: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aulast=Shaffer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</a:t>
            </a:r>
            <a:br>
              <a:rPr sz="2000"/>
            </a:b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aufirst=%20Dennis%20M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auinit=&amp;</a:t>
            </a: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title=</a:t>
            </a:r>
            <a:br>
              <a:rPr sz="2000"/>
            </a:b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Psychological%20Science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</a:t>
            </a:r>
            <a:r>
              <a:rPr b="1" lang="en-AU" sz="2000" spc="-1" strike="noStrike">
                <a:solidFill>
                  <a:srgbClr val="00a479"/>
                </a:solidFill>
                <a:latin typeface="Arial"/>
              </a:rPr>
              <a:t>atitle=How%20Dogs%20Navigate%20to%20Catch%20Frisbees%2E</a:t>
            </a:r>
            <a:r>
              <a:rPr b="1" lang="en-AU" sz="2000" spc="-1" strike="noStrike">
                <a:solidFill>
                  <a:srgbClr val="b2b2b2"/>
                </a:solidFill>
                <a:latin typeface="Arial"/>
              </a:rPr>
              <a:t>&amp;sici=&amp;__service_type=&amp;pid=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124000" y="2941560"/>
            <a:ext cx="7020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Where we ar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La Trobe &amp; Monash have gone live to staff and researchers using Metalib 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winburne and most other AARLIN sites are waiting for Metalib 3 - due to be installed late Ju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winburne and 4 other sites will pilot undergraduate student access this ye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ARLIN Project funding ceases at end of 2004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usiness model being developed for 2005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79280" y="1915920"/>
            <a:ext cx="75438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ARLIN web site</a:t>
            </a:r>
            <a:br>
              <a:rPr sz="2800"/>
            </a:br>
            <a:r>
              <a:rPr b="0" lang="en-US" sz="2800" spc="-1" strike="noStrike" u="sng">
                <a:solidFill>
                  <a:srgbClr val="5f5f5f"/>
                </a:solidFill>
                <a:uFillTx/>
                <a:latin typeface="Arial Narrow"/>
                <a:hlinkClick r:id="rId1"/>
              </a:rPr>
              <a:t>www.aarlin.edu.au</a:t>
            </a:r>
            <a:br>
              <a:rPr sz="2800"/>
            </a:br>
            <a:r>
              <a:rPr b="0" lang="en-US" sz="2800" spc="-1" strike="noStrike" u="sng">
                <a:solidFill>
                  <a:srgbClr val="5f5f5f"/>
                </a:solidFill>
                <a:uFillTx/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Tony Davies</a:t>
            </a:r>
            <a:br>
              <a:rPr sz="2800"/>
            </a:br>
            <a:r>
              <a:rPr b="0" lang="en-AU" sz="2800" spc="-1" strike="noStrike" u="sng">
                <a:solidFill>
                  <a:srgbClr val="5f5f5f"/>
                </a:solidFill>
                <a:uFillTx/>
                <a:latin typeface="Arial Narrow"/>
                <a:hlinkClick r:id="rId2"/>
              </a:rPr>
              <a:t>tdavies@swin.edu.au</a:t>
            </a:r>
            <a:br>
              <a:rPr sz="2800"/>
            </a:br>
            <a:r>
              <a:rPr b="0" lang="en-AU" sz="2800" spc="-1" strike="noStrike" u="sng">
                <a:solidFill>
                  <a:srgbClr val="5f5f5f"/>
                </a:solidFill>
                <a:uFillTx/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Monash University study showed that users encounter a range of problems using library databas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62120" indent="-285840"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y have difficulty determining which databases to 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62120" indent="-285840"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y are confused by multiple search interfa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62120" indent="-285840"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they have problems with multiple sign-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When deciding which databases to use, the top response from students was “trial and error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- Monash Library Database Usage Survey, 200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1994 Swinburne had 2 web databa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 2004 Swinburne has over 250 web databa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lso dozens of library catalogues, search engines, subject gateways, eprint server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ozens of different platforms with different search requir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Aims of AARLIN…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major aim of AARLIN is to provide users with a resource discovery tool that emulates the ease of use of Internet search engines such as Google, while at the same time guiding them to choosing relevant resources, using a single sign-on.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 Kate Roberts, AARLIN Project Officer, 200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ase 1 – Prototype (2001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jor funding from the Australian Research Counci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monstration of “proof of concept”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election of Ex Libris software: Metalib &amp; SF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 month pilot for staff &amp; researchers at 6 universities: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inders University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inburne Univ of Tec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 Trobe University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niversity of Canberra Murdoch Universit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ctoria Univers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640" y="358560"/>
            <a:ext cx="69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ase 2 – Implementation (2002-04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nding from DEST $2.8 mill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Selected new versions of Metalib &amp; SF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Installation, training and rollout at 21 universi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Narrow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1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Go live!  Initially to staff and researchers, followed by undergradu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04:13:56Z</dcterms:created>
  <dc:creator>Swinburne University</dc:creator>
  <dc:description/>
  <dc:language>en-US</dc:language>
  <cp:lastModifiedBy>jasons</cp:lastModifiedBy>
  <cp:lastPrinted>1999-08-10T01:39:12Z</cp:lastPrinted>
  <dcterms:modified xsi:type="dcterms:W3CDTF">2004-06-25T02:04:55Z</dcterms:modified>
  <cp:revision>332</cp:revision>
  <dc:subject/>
  <dc:title>Swinburne Marketing Strategy</dc:title>
</cp:coreProperties>
</file>